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983280" cy="9283680"/>
          </a:xfrm>
          <a:custGeom>
            <a:avLst/>
            <a:gdLst>
              <a:gd name="textAreaLeft" fmla="*/ 360 w 6983280"/>
              <a:gd name="textAreaRight" fmla="*/ 6982920 w 6983280"/>
              <a:gd name="textAreaTop" fmla="*/ 360 h 9283680"/>
              <a:gd name="textAreaBottom" fmla="*/ 9283320 h 9283680"/>
            </a:gdLst>
            <a:ahLst/>
            <a:rect l="textAreaLeft" t="textAreaTop" r="textAreaRight" b="textAreaBottom"/>
            <a:pathLst>
              <a:path w="21600" h="28715">
                <a:moveTo>
                  <a:pt x="4" y="0"/>
                </a:moveTo>
                <a:arcTo wR="4" hR="4" stAng="16200000" swAng="-5400000"/>
                <a:lnTo>
                  <a:pt x="0" y="28711"/>
                </a:lnTo>
                <a:arcTo wR="4" hR="4" stAng="10800000" swAng="-5400000"/>
                <a:lnTo>
                  <a:pt x="21596" y="2871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985080" cy="9285120"/>
          </a:xfrm>
          <a:custGeom>
            <a:avLst/>
            <a:gdLst>
              <a:gd name="textAreaLeft" fmla="*/ 360 w 6985080"/>
              <a:gd name="textAreaRight" fmla="*/ 6984720 w 698508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712">
                <a:moveTo>
                  <a:pt x="4" y="0"/>
                </a:moveTo>
                <a:arcTo wR="4" hR="4" stAng="16200000" swAng="-5400000"/>
                <a:lnTo>
                  <a:pt x="0" y="28708"/>
                </a:lnTo>
                <a:arcTo wR="4" hR="4" stAng="10800000" swAng="-5400000"/>
                <a:lnTo>
                  <a:pt x="21596" y="2871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957120" y="-144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051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3720" cy="41594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957120" y="8818560"/>
            <a:ext cx="3009960" cy="4492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A7A75-290B-4CC4-B518-688B31CDDAB7}" type="slidenum">
              <a:rPr b="0" i="1" lang="en-GB" sz="10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81160" y="706320"/>
            <a:ext cx="46148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1160" y="706320"/>
            <a:ext cx="462276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1160" y="706320"/>
            <a:ext cx="4613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81160" y="706320"/>
            <a:ext cx="461016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05160" cy="41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D13-6CD9-42F6-889D-C1E0747E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5F3-F299-4834-AAE4-A1C03B47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3AF-6D2A-4D77-8F65-FB69F792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D88-C81D-4219-AB97-282108C0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3052-143B-4B76-8155-0D5E9394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293C-AA66-40E7-BAA0-BB526FC0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BA08-F95F-4960-8F69-D91A275EB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112F-3502-4787-9193-18287F4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37BE-94D6-47CB-9CFD-C51C5B7B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02A0-EBB3-4C98-8B7F-B83B5962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A82E-DD55-4F60-B554-12150E8F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0FE-3DC7-453B-8F9B-31262F2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58FA-1DED-49A7-A57E-8C842923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CF82-3AE9-453E-B427-B571785C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1E9A-2DEC-4F50-A100-7E8C7845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8669-D234-45F0-A97A-FD86F57DA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212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9240" y="16761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500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212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9240" y="3816360"/>
            <a:ext cx="24825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1B2C-1655-4E17-84C5-4135F2A1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ED5-D624-4033-A269-1A450D3E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F52-AEC0-4D02-86F8-53E582B9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D1F-B81B-44FC-95B5-E89D1D3F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124920"/>
            <a:ext cx="7754760" cy="67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F3C-36C5-4064-A06E-77A3E28F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20B-AC2D-4E6D-BAC8-3F92D1B0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86000" y="38163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E4D-5370-47DE-AC5B-4861B19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86000" y="1676160"/>
            <a:ext cx="376236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5000" y="3816360"/>
            <a:ext cx="7710480" cy="19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3AE-EBBC-4C0A-A654-F1A8987E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alphaModFix amt="40000"/>
          </a:blip>
          <a:stretch/>
        </p:blipFill>
        <p:spPr>
          <a:xfrm>
            <a:off x="7315200" y="5510160"/>
            <a:ext cx="1828800" cy="1347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24920"/>
            <a:ext cx="7754760" cy="145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5000" y="1676160"/>
            <a:ext cx="7710480" cy="40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15360" indent="-3153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03440" indent="-259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0844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55196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1995480" indent="-2214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17184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17184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5E1F9-834C-44FE-A15F-6930E253EBD3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440" y="2967120"/>
            <a:ext cx="8026560" cy="144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46240"/>
            <a:ext cx="7755120" cy="145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052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7820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8874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317E5-50C9-4813-BF54-4781BA65AB9C}" type="slidenum">
              <a:rPr b="0" lang="en-GB" sz="1400" spc="-1" strike="noStrike">
                <a:solidFill>
                  <a:srgbClr val="000000"/>
                </a:solidFill>
                <a:latin typeface="Comic Sans MS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19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25400" indent="-2682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0" y="198360"/>
            <a:ext cx="6858000" cy="27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San Diego</a:t>
            </a:r>
            <a:br>
              <a:rPr sz="4400"/>
            </a:br>
            <a:r>
              <a:rPr b="0" lang="en-GB" sz="4400" spc="-1" strike="noStrike">
                <a:solidFill>
                  <a:srgbClr val="808080"/>
                </a:solidFill>
                <a:latin typeface="Arial"/>
              </a:rPr>
              <a:t>January 15-16, 2009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GMOD Project Coordinator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Ontario Institute for Cancer Research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77480"/>
            <a:ext cx="829620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Good stuff since the last meeting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5000" y="1676160"/>
            <a:ext cx="7718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Browse 1.69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few Apollo releas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map 1.01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enericGenePage 0.11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ioPerl/BioGraphics spli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77480"/>
            <a:ext cx="7762680" cy="13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What's on tap for GMOD 1.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5000" y="1676520"/>
            <a:ext cx="771840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schema changes (but Changes.SQL will allow easy update)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inor fix to GFF3 preprocessing tool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ddition of Chris Mungall's script to create views based on cvterm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74600"/>
            <a:ext cx="77594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Another GMOD success story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15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HMI's Science Education Allianc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llege freshme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solate and sequence phage sampl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notate with Java WebStart, Chado and GBrowse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25440" indent="-3254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n production” now at 12 colleges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